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25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11.jpeg" ContentType="image/jpeg"/>
  <Override PartName="/ppt/media/image6.jpeg" ContentType="image/jpeg"/>
  <Override PartName="/ppt/media/image5.gif" ContentType="image/gif"/>
  <Override PartName="/ppt/media/image28.gif" ContentType="image/gif"/>
  <Override PartName="/ppt/media/image13.gif" ContentType="image/gif"/>
  <Override PartName="/ppt/media/image4.jpeg" ContentType="image/jpeg"/>
  <Override PartName="/ppt/media/image22.gif" ContentType="image/gif"/>
  <Override PartName="/ppt/media/image27.gif" ContentType="image/gif"/>
  <Override PartName="/ppt/media/image15.gif" ContentType="image/gif"/>
  <Override PartName="/ppt/media/image26.gif" ContentType="image/gif"/>
  <Override PartName="/ppt/media/image14.gif" ContentType="image/gif"/>
  <Override PartName="/ppt/media/image24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D04-480C-49D9-AA60-F8979A4A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D59-DDE1-448E-B92F-A06F28A2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227-ED6B-47D8-AF3B-00EBB027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10C-1F6A-4BB3-B06D-2EB5983F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008-FB8E-4298-A744-860B6029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F7B-7DDE-4562-B263-25BE8D4F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79D-4BB7-436E-A6AD-38CBA886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7C9-ED9A-4703-9284-FE45C61A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247-4832-4028-A713-5615D819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2C0-5A43-4CE4-9C3D-FA3542EE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F70-CE07-4883-A545-4B787BC8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D0C-A7C1-44A8-B884-BE386F7F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9A5F-8330-416D-A46F-CCA536D48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46.radikal.ru/i114/0812/03/164cb89b7f6e.gif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6.gif"/><Relationship Id="rId11" Type="http://schemas.openxmlformats.org/officeDocument/2006/relationships/image" Target="../media/image27.gif"/><Relationship Id="rId12" Type="http://schemas.openxmlformats.org/officeDocument/2006/relationships/image" Target="../media/image28.gif"/><Relationship Id="rId13" Type="http://schemas.openxmlformats.org/officeDocument/2006/relationships/image" Target="../media/image18.gif"/><Relationship Id="rId14" Type="http://schemas.openxmlformats.org/officeDocument/2006/relationships/image" Target="../media/image24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26.gif"/><Relationship Id="rId18" Type="http://schemas.openxmlformats.org/officeDocument/2006/relationships/image" Target="../media/image24.gi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5 из 5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152280"/>
            <a:ext cx="73915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андр Сергеевич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шкин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3962520"/>
            <a:ext cx="80773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т север тучи нагоняя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-30492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466092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Увеличенное 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462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Увеличенное изображение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838440" cy="175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52680" y="1143000"/>
            <a:ext cx="838440" cy="162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400800" y="1143000"/>
            <a:ext cx="838080" cy="1628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85800" y="4495680"/>
            <a:ext cx="762120" cy="1714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7848720" y="4495680"/>
            <a:ext cx="685800" cy="164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657600" y="2819520"/>
            <a:ext cx="68580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666880" y="4572000"/>
            <a:ext cx="762120" cy="1638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3657600" y="4495680"/>
            <a:ext cx="1028880" cy="1638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1676520" y="4495680"/>
            <a:ext cx="761760" cy="1638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7467480" y="1219320"/>
            <a:ext cx="838440" cy="1562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2362320" y="1066680"/>
            <a:ext cx="838080" cy="163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>
            <a:off x="4343400" y="1143000"/>
            <a:ext cx="83808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5334120" y="1143000"/>
            <a:ext cx="838080" cy="1638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5"/>
          <a:stretch/>
        </p:blipFill>
        <p:spPr>
          <a:xfrm>
            <a:off x="4343400" y="2819520"/>
            <a:ext cx="685800" cy="1628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6"/>
          <a:stretch/>
        </p:blipFill>
        <p:spPr>
          <a:xfrm>
            <a:off x="4952880" y="4572000"/>
            <a:ext cx="762120" cy="1628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7"/>
          <a:stretch/>
        </p:blipFill>
        <p:spPr>
          <a:xfrm>
            <a:off x="5867280" y="4419720"/>
            <a:ext cx="762120" cy="1638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8"/>
          <a:stretch/>
        </p:blipFill>
        <p:spPr>
          <a:xfrm>
            <a:off x="6858000" y="4495680"/>
            <a:ext cx="762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6680" y="228600"/>
            <a:ext cx="409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Вот север, тучи нагоняя,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Дохнул, завыл – и вот сама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Идет волшебница-зима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2133720" y="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09320" y="228600"/>
            <a:ext cx="469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ишла, рассыпалась; клоками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овисла на суках дубов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17524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9000" y="304920"/>
            <a:ext cx="45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be6"/>
                </a:solidFill>
                <a:latin typeface="Arial"/>
              </a:rPr>
              <a:t>Легла волнистыми коврами</a:t>
            </a:r>
            <a:br>
              <a:rPr sz="2400"/>
            </a:br>
            <a:r>
              <a:rPr b="1" lang="en-US" sz="2400" spc="-1" strike="noStrike">
                <a:solidFill>
                  <a:srgbClr val="00ebe6"/>
                </a:solidFill>
                <a:latin typeface="Arial"/>
              </a:rPr>
              <a:t>Среди полей вокруг холмов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2720" y="228600"/>
            <a:ext cx="437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Брега с недвижною рекою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равняла пухлой пелено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7520" y="5303160"/>
            <a:ext cx="399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Блеснул мороз, и рады мы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оказам матушки-з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30492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 Евгеньевна</cp:lastModifiedBy>
  <dcterms:modified xsi:type="dcterms:W3CDTF">2009-03-26T01:51:2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